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larendon Condensed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637B042-554B-41A1-9A5A-8EAF8699B7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6BB89FA-4581-413B-9853-9C8A11149E00}" type="slidenum">
              <a:rPr b="0" lang="en-US" sz="1200" spc="-1" strike="noStrike">
                <a:solidFill>
                  <a:srgbClr val="ffcc00"/>
                </a:solidFill>
                <a:latin typeface="Clarendon Condensed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Clarendon Condensed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5424C3D-1EFD-4427-BF07-693A542BFB40}" type="slidenum">
              <a:rPr b="0" lang="en-US" sz="1200" spc="-1" strike="noStrike">
                <a:solidFill>
                  <a:srgbClr val="ffcc00"/>
                </a:solidFill>
                <a:latin typeface="Clarendon Condensed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Clarendon Condensed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101E145-8636-46AC-BD00-58B2034FAE66}" type="slidenum">
              <a:rPr b="0" lang="en-US" sz="1200" spc="-1" strike="noStrike">
                <a:solidFill>
                  <a:srgbClr val="ffcc00"/>
                </a:solidFill>
                <a:latin typeface="Clarendon Condensed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Clarendon Condensed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698480" y="380880"/>
            <a:ext cx="3562560" cy="267192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598320" y="3204720"/>
            <a:ext cx="5910480" cy="541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22B01BF-E678-4229-85C2-B3BAA0EDF38C}" type="slidenum">
              <a:rPr b="0" lang="en-US" sz="1200" spc="-1" strike="noStrike">
                <a:solidFill>
                  <a:srgbClr val="ffcc00"/>
                </a:solidFill>
                <a:latin typeface="Clarendon Condensed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Clarendon Condensed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852560" y="380880"/>
            <a:ext cx="3252960" cy="24400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03668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through these procedures fairly quickly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’s an exercise to lear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ant them to be able to understand the form and what it s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AIN APPROPRIATE FOR THE CONTE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trust a NYT times article from a personal page as much as one from nytimes.c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py of Jackie Onassis’s will from a personal page as much as one from the California Bar Assn.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a personal page would be: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aol.com/~jba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loosely paralleled by the sequence of the form in the next exerci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ACF7016-638D-4F61-896A-437008183C69}" type="slidenum">
              <a:rPr b="0" lang="en-US" sz="1200" spc="-1" strike="noStrike">
                <a:solidFill>
                  <a:srgbClr val="ffcc00"/>
                </a:solidFill>
                <a:latin typeface="Clarendon Condensed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Clarendon Condensed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7F51B7E-8CA3-4891-96CA-842FCA690A46}" type="slidenum">
              <a:rPr b="0" lang="en-US" sz="1200" spc="-1" strike="noStrike">
                <a:solidFill>
                  <a:srgbClr val="ffcc00"/>
                </a:solidFill>
                <a:latin typeface="Clarendon Condensed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Clarendon Condensed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698480" y="380880"/>
            <a:ext cx="3562560" cy="267192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8320" y="3204720"/>
            <a:ext cx="5910480" cy="542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99730D5-9D50-4120-9B11-A07C76DDAB79}" type="slidenum">
              <a:rPr b="0" lang="en-US" sz="1200" spc="-1" strike="noStrike">
                <a:solidFill>
                  <a:srgbClr val="ffcc00"/>
                </a:solidFill>
                <a:latin typeface="Clarendon Condensed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Clarendon Condensed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698480" y="380880"/>
            <a:ext cx="3562560" cy="267192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598320" y="3204720"/>
            <a:ext cx="5910480" cy="541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trust the lii.org more than many referrals.  If there are annotations by professionals, that hel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rden is on you, alw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nstrate link: search example in Goo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http://www.hanksville.org/yucatan/mayaca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B6B2071-3583-4DB0-925E-C97C494EA106}" type="slidenum">
              <a:rPr b="0" lang="en-US" sz="1200" spc="-1" strike="noStrike">
                <a:solidFill>
                  <a:srgbClr val="ffcc00"/>
                </a:solidFill>
                <a:latin typeface="Clarendon Condensed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Clarendon Condensed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698480" y="380880"/>
            <a:ext cx="3562560" cy="267192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98320" y="3204720"/>
            <a:ext cx="5910480" cy="541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trust the lii.org more than many referrals.  If there are annotations by professionals, that hel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rden is on you, alw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nstrate link: search example in Goo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http://www.hanksville.org/yucatan/mayaca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4D9736F-3F92-4F85-A274-1B9C07B5196F}" type="slidenum">
              <a:rPr b="0" lang="en-US" sz="1200" spc="-1" strike="noStrike">
                <a:solidFill>
                  <a:srgbClr val="ffcc00"/>
                </a:solidFill>
                <a:latin typeface="Clarendon Condensed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Clarendon Condensed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7892CC6-90F3-49CC-B3F6-7EFBBB7BC869}" type="slidenum">
              <a:rPr b="0" lang="en-US" sz="1200" spc="-1" strike="noStrike">
                <a:solidFill>
                  <a:srgbClr val="ffcc00"/>
                </a:solidFill>
                <a:latin typeface="Clarendon Condensed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Clarendon Condensed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698480" y="380880"/>
            <a:ext cx="3562560" cy="267192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598320" y="3204720"/>
            <a:ext cx="5910480" cy="542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805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7520" y="4230360"/>
            <a:ext cx="805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43480" y="152388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7520" y="423036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43480" y="423036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259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39840" y="1523880"/>
            <a:ext cx="259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62160" y="1523880"/>
            <a:ext cx="259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7520" y="4230360"/>
            <a:ext cx="259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39840" y="4230360"/>
            <a:ext cx="259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62160" y="4230360"/>
            <a:ext cx="259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17520" y="1523880"/>
            <a:ext cx="805176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80517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3929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43480" y="1523880"/>
            <a:ext cx="3929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560" y="543600"/>
            <a:ext cx="80010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43480" y="1523880"/>
            <a:ext cx="3929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17520" y="423036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7520" y="1523880"/>
            <a:ext cx="805176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3929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43480" y="152388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43480" y="423036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43480" y="152388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17520" y="4230360"/>
            <a:ext cx="805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805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17520" y="4230360"/>
            <a:ext cx="805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43480" y="152388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17520" y="423036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43480" y="423036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259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39840" y="1523880"/>
            <a:ext cx="259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62160" y="1523880"/>
            <a:ext cx="259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17520" y="4230360"/>
            <a:ext cx="259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39840" y="4230360"/>
            <a:ext cx="259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62160" y="4230360"/>
            <a:ext cx="259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80517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3929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43480" y="1523880"/>
            <a:ext cx="3929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543600"/>
            <a:ext cx="80010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43480" y="1523880"/>
            <a:ext cx="3929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7520" y="423036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3929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43480" y="152388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43480" y="423036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43480" y="152388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7520" y="4230360"/>
            <a:ext cx="805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17520" y="1523880"/>
            <a:ext cx="80517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Text Box 19"/>
          <p:cNvSpPr/>
          <p:nvPr/>
        </p:nvSpPr>
        <p:spPr>
          <a:xfrm rot="5400000">
            <a:off x="7980480" y="386640"/>
            <a:ext cx="1369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larendon Condensed"/>
              </a:rPr>
              <a:t>to the</a:t>
            </a:r>
            <a:r>
              <a:rPr b="0" lang="en-US" sz="4800" spc="-1" strike="noStrike">
                <a:solidFill>
                  <a:srgbClr val="ffcc00"/>
                </a:solidFill>
                <a:latin typeface="Clarendon Condensed"/>
              </a:rPr>
              <a:t> </a:t>
            </a:r>
            <a:endParaRPr b="0" lang="en-US" sz="4800" spc="-1" strike="noStrike">
              <a:solidFill>
                <a:srgbClr val="ffcc00"/>
              </a:solidFill>
              <a:latin typeface="Clarendon Condensed"/>
            </a:endParaRPr>
          </a:p>
        </p:txBody>
      </p:sp>
      <p:sp>
        <p:nvSpPr>
          <p:cNvPr id="3" name="WordArt 20"/>
          <p:cNvSpPr txBox="1"/>
          <p:nvPr/>
        </p:nvSpPr>
        <p:spPr>
          <a:xfrm rot="4980000">
            <a:off x="8121240" y="1771560"/>
            <a:ext cx="1152720" cy="42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Left">
              <a:avLst>
                <a:gd name="adj" fmla="val 21903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00"/>
                </a:solidFill>
                <a:latin typeface="Garamond"/>
              </a:rPr>
              <a:t>MAX</a:t>
            </a:r>
            <a:endParaRPr b="0" lang="en-US" sz="4000" spc="1" strike="noStrike">
              <a:ln w="0">
                <a:noFill/>
              </a:ln>
              <a:solidFill>
                <a:srgbClr val="ff0000"/>
              </a:solidFill>
              <a:latin typeface="Garamond"/>
              <a:ea typeface="Garamond"/>
            </a:endParaRPr>
          </a:p>
        </p:txBody>
      </p:sp>
      <p:sp>
        <p:nvSpPr>
          <p:cNvPr id="4" name="Text Box 21"/>
          <p:cNvSpPr/>
          <p:nvPr/>
        </p:nvSpPr>
        <p:spPr>
          <a:xfrm>
            <a:off x="6617520" y="-51120"/>
            <a:ext cx="213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Georgia"/>
              </a:rPr>
              <a:t>G</a:t>
            </a:r>
            <a:r>
              <a:rPr b="1" lang="en-US" sz="4000" spc="-1" strike="noStrike">
                <a:solidFill>
                  <a:srgbClr val="ff3300"/>
                </a:solidFill>
                <a:latin typeface="Georgia"/>
              </a:rPr>
              <a:t>o</a:t>
            </a:r>
            <a:r>
              <a:rPr b="1" lang="en-US" sz="4000" spc="-1" strike="noStrike">
                <a:solidFill>
                  <a:srgbClr val="eee800"/>
                </a:solidFill>
                <a:latin typeface="Georgia"/>
              </a:rPr>
              <a:t>o</a:t>
            </a:r>
            <a:r>
              <a:rPr b="1" lang="en-US" sz="4000" spc="-1" strike="noStrike">
                <a:solidFill>
                  <a:srgbClr val="0066ff"/>
                </a:solidFill>
                <a:latin typeface="Georgia"/>
              </a:rPr>
              <a:t>g</a:t>
            </a:r>
            <a:r>
              <a:rPr b="1" lang="en-US" sz="4000" spc="-1" strike="noStrike">
                <a:solidFill>
                  <a:srgbClr val="00d600"/>
                </a:solidFill>
                <a:latin typeface="Georgia"/>
              </a:rPr>
              <a:t>l</a:t>
            </a:r>
            <a:r>
              <a:rPr b="1" lang="en-US" sz="2400" spc="-1" strike="noStrike">
                <a:solidFill>
                  <a:srgbClr val="ff3300"/>
                </a:solidFill>
                <a:latin typeface="Georgia"/>
              </a:rPr>
              <a:t>ing</a:t>
            </a:r>
            <a:endParaRPr b="0" lang="en-US" sz="2400" spc="-1" strike="noStrike">
              <a:solidFill>
                <a:srgbClr val="ffcc00"/>
              </a:solidFill>
              <a:latin typeface="Clarendon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3"/>
          <p:cNvSpPr/>
          <p:nvPr/>
        </p:nvSpPr>
        <p:spPr>
          <a:xfrm>
            <a:off x="3478320" y="2184840"/>
            <a:ext cx="1930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larendon Condensed"/>
              </a:rPr>
              <a:t>to the</a:t>
            </a:r>
            <a:r>
              <a:rPr b="0" lang="en-US" sz="4800" spc="-1" strike="noStrike">
                <a:solidFill>
                  <a:srgbClr val="ffcc00"/>
                </a:solidFill>
                <a:latin typeface="Clarendon Condensed"/>
              </a:rPr>
              <a:t> </a:t>
            </a:r>
            <a:endParaRPr b="0" lang="en-US" sz="4800" spc="-1" strike="noStrike">
              <a:solidFill>
                <a:srgbClr val="ffcc00"/>
              </a:solidFill>
              <a:latin typeface="Clarendon Condensed"/>
            </a:endParaRPr>
          </a:p>
        </p:txBody>
      </p:sp>
      <p:sp>
        <p:nvSpPr>
          <p:cNvPr id="42" name="WordArt 14"/>
          <p:cNvSpPr txBox="1"/>
          <p:nvPr/>
        </p:nvSpPr>
        <p:spPr>
          <a:xfrm rot="21180000">
            <a:off x="5384520" y="1848960"/>
            <a:ext cx="2616120" cy="109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Left">
              <a:avLst>
                <a:gd name="adj" fmla="val 3266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MAX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43" name="Text Box 16"/>
          <p:cNvSpPr/>
          <p:nvPr/>
        </p:nvSpPr>
        <p:spPr>
          <a:xfrm>
            <a:off x="747720" y="1027080"/>
            <a:ext cx="4219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ff"/>
                </a:solidFill>
                <a:latin typeface="Georgia"/>
              </a:rPr>
              <a:t>G</a:t>
            </a:r>
            <a:r>
              <a:rPr b="1" lang="en-US" sz="8000" spc="-1" strike="noStrike">
                <a:solidFill>
                  <a:srgbClr val="ff3300"/>
                </a:solidFill>
                <a:latin typeface="Georgia"/>
              </a:rPr>
              <a:t>o</a:t>
            </a:r>
            <a:r>
              <a:rPr b="1" lang="en-US" sz="8000" spc="-1" strike="noStrike">
                <a:solidFill>
                  <a:srgbClr val="eee800"/>
                </a:solidFill>
                <a:latin typeface="Georgia"/>
              </a:rPr>
              <a:t>o</a:t>
            </a:r>
            <a:r>
              <a:rPr b="1" lang="en-US" sz="8000" spc="-1" strike="noStrike">
                <a:solidFill>
                  <a:srgbClr val="0066ff"/>
                </a:solidFill>
                <a:latin typeface="Georgia"/>
              </a:rPr>
              <a:t>g</a:t>
            </a:r>
            <a:r>
              <a:rPr b="1" lang="en-US" sz="8000" spc="-1" strike="noStrike">
                <a:solidFill>
                  <a:srgbClr val="00d600"/>
                </a:solidFill>
                <a:latin typeface="Georgia"/>
              </a:rPr>
              <a:t>l</a:t>
            </a:r>
            <a:r>
              <a:rPr b="1" lang="en-US" sz="5400" spc="-1" strike="noStrike">
                <a:solidFill>
                  <a:srgbClr val="ff3300"/>
                </a:solidFill>
                <a:latin typeface="Georgia"/>
              </a:rPr>
              <a:t>ing</a:t>
            </a:r>
            <a:endParaRPr b="0" lang="en-US" sz="5400" spc="-1" strike="noStrike">
              <a:solidFill>
                <a:srgbClr val="ffcc00"/>
              </a:solidFill>
              <a:latin typeface="Clarendon Condensed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317520" y="1523880"/>
            <a:ext cx="80517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762120" y="2514600"/>
            <a:ext cx="76960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r" pos="680076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r" pos="6800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John Kupersmith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r" pos="6800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jkupersm [at] library.berkeley.edu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lnSpc>
                <a:spcPct val="110000"/>
              </a:lnSpc>
              <a:spcBef>
                <a:spcPts val="499"/>
              </a:spcBef>
              <a:tabLst>
                <a:tab algn="l" pos="0"/>
                <a:tab algn="r" pos="6800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 “Know Your Library” Workshop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r" pos="6800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Teaching Library, University of California, Berkeley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r" pos="6800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Spring 2009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633960" y="759600"/>
            <a:ext cx="50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G Times"/>
              </a:rPr>
              <a:t>Research-quality Web Searching</a:t>
            </a:r>
            <a:endParaRPr b="0" lang="en-US" sz="2400" spc="-1" strike="noStrike">
              <a:solidFill>
                <a:srgbClr val="ffcc00"/>
              </a:solidFill>
              <a:latin typeface="Clarendon Condensed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609480" y="5011200"/>
            <a:ext cx="8077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 Unicode MS"/>
              </a:rPr>
              <a:t>COURSE PAGES:</a:t>
            </a:r>
            <a:endParaRPr b="0" lang="en-US" sz="2000" spc="-1" strike="noStrike">
              <a:solidFill>
                <a:srgbClr val="ffcc00"/>
              </a:solidFill>
              <a:latin typeface="Clarendon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http://www.lib.berkeley.edu/find/types/websites.html</a:t>
            </a:r>
            <a:endParaRPr b="0" lang="en-US" sz="2000" spc="-1" strike="noStrike">
              <a:solidFill>
                <a:srgbClr val="ffcc00"/>
              </a:solidFill>
              <a:latin typeface="Clarendon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http://www.lib.berkeley.edu/TeachingLib/Guides/Internet/FindInfo.html</a:t>
            </a:r>
            <a:endParaRPr b="0" lang="en-US" sz="2000" spc="-1" strike="noStrike">
              <a:solidFill>
                <a:srgbClr val="ffcc00"/>
              </a:solidFill>
              <a:latin typeface="Clarendon Condensed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457200" y="1293120"/>
            <a:ext cx="775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ff"/>
                </a:solidFill>
                <a:latin typeface="Baskerville Semibold"/>
              </a:rPr>
              <a:t>G</a:t>
            </a:r>
            <a:r>
              <a:rPr b="0" lang="en-US" sz="7200" spc="-1" strike="noStrike">
                <a:solidFill>
                  <a:srgbClr val="ff3300"/>
                </a:solidFill>
                <a:latin typeface="Baskerville Semibold"/>
              </a:rPr>
              <a:t>o</a:t>
            </a:r>
            <a:r>
              <a:rPr b="0" lang="en-US" sz="7200" spc="-1" strike="noStrike">
                <a:solidFill>
                  <a:srgbClr val="ffcc00"/>
                </a:solidFill>
                <a:latin typeface="Baskerville Semibold"/>
              </a:rPr>
              <a:t>o</a:t>
            </a:r>
            <a:r>
              <a:rPr b="0" lang="en-US" sz="7200" spc="-1" strike="noStrike">
                <a:solidFill>
                  <a:srgbClr val="0066ff"/>
                </a:solidFill>
                <a:latin typeface="Baskerville Semibold"/>
              </a:rPr>
              <a:t>g</a:t>
            </a:r>
            <a:r>
              <a:rPr b="0" lang="en-US" sz="7200" spc="-1" strike="noStrike">
                <a:solidFill>
                  <a:srgbClr val="3cb43c"/>
                </a:solidFill>
                <a:latin typeface="Baskerville Semibold"/>
              </a:rPr>
              <a:t>l</a:t>
            </a:r>
            <a:r>
              <a:rPr b="0" lang="en-US" sz="7200" spc="-1" strike="noStrike">
                <a:solidFill>
                  <a:srgbClr val="ff3300"/>
                </a:solidFill>
                <a:latin typeface="Baskerville Semibold"/>
              </a:rPr>
              <a:t>e</a:t>
            </a: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 and Beyond</a:t>
            </a:r>
            <a:endParaRPr b="0" lang="en-US" sz="6000" spc="-1" strike="noStrike">
              <a:solidFill>
                <a:srgbClr val="ffcc00"/>
              </a:solidFill>
              <a:latin typeface="Clarendon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5457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et’s visit …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7759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ihydrogen Monoxide Research Division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CRITICAL EVALUATION</a:t>
            </a:r>
            <a:br>
              <a:rPr sz="40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Why Evaluate What You Find on the Web?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nyone can put up a web pag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any pages not update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o quality contro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ost sites not “peer-reviewed”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less trustworthy than scholarly publication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Before you click to view the page...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Look at th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URL -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ersonal page or site ?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d600"/>
                </a:solidFill>
                <a:latin typeface="Arial"/>
              </a:rPr>
              <a:t>~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 or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d600"/>
                </a:solidFill>
                <a:latin typeface="Arial"/>
              </a:rPr>
              <a:t>%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or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d600"/>
                </a:solidFill>
                <a:latin typeface="Arial"/>
              </a:rPr>
              <a:t>users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 or  </a:t>
            </a:r>
            <a:r>
              <a:rPr b="1" lang="en-US" sz="1800" spc="-1" strike="noStrike">
                <a:solidFill>
                  <a:srgbClr val="00d600"/>
                </a:solidFill>
                <a:latin typeface="Arial"/>
              </a:rPr>
              <a:t>member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omain name appropriate for the content ?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Restricted:   </a:t>
            </a:r>
            <a:r>
              <a:rPr b="0" lang="en-US" sz="1600" spc="-1" strike="noStrike">
                <a:solidFill>
                  <a:srgbClr val="00d600"/>
                </a:solidFill>
                <a:latin typeface="Arial"/>
              </a:rPr>
              <a:t>edu,  gov,  mil,  a few country codes (ca)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Unrestricted:</a:t>
            </a:r>
            <a:r>
              <a:rPr b="0" lang="en-US" sz="1600" spc="-1" strike="noStrike">
                <a:solidFill>
                  <a:srgbClr val="ffcc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d600"/>
                </a:solidFill>
                <a:latin typeface="Arial"/>
              </a:rPr>
              <a:t>com,  org,  net,  most country codes (us, uk)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ublished by an entity that makes sense ?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News from its source?  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lvl="4" marL="2286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d600"/>
                </a:solidFill>
                <a:latin typeface="Arial"/>
              </a:rPr>
              <a:t>www.</a:t>
            </a:r>
            <a:r>
              <a:rPr b="1" lang="en-US" sz="1600" spc="-1" strike="noStrike">
                <a:solidFill>
                  <a:srgbClr val="eee800"/>
                </a:solidFill>
                <a:latin typeface="Arial"/>
              </a:rPr>
              <a:t>nytimes</a:t>
            </a:r>
            <a:r>
              <a:rPr b="1" lang="en-US" sz="1600" spc="-1" strike="noStrike">
                <a:solidFill>
                  <a:srgbClr val="00d600"/>
                </a:solidFill>
                <a:latin typeface="Arial"/>
              </a:rPr>
              <a:t>.com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Advice from valid agency?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lvl="4" marL="2286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d600"/>
                </a:solidFill>
                <a:latin typeface="Arial"/>
              </a:rPr>
              <a:t>www.</a:t>
            </a:r>
            <a:r>
              <a:rPr b="1" lang="en-US" sz="1600" spc="-1" strike="noStrike">
                <a:solidFill>
                  <a:srgbClr val="eee800"/>
                </a:solidFill>
                <a:latin typeface="Arial"/>
              </a:rPr>
              <a:t>nih</a:t>
            </a:r>
            <a:r>
              <a:rPr b="1" lang="en-US" sz="1600" spc="-1" strike="noStrike">
                <a:solidFill>
                  <a:srgbClr val="00d600"/>
                </a:solidFill>
                <a:latin typeface="Arial"/>
              </a:rPr>
              <a:t>.gov/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lvl="4" marL="2286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d600"/>
                </a:solidFill>
                <a:latin typeface="Arial"/>
              </a:rPr>
              <a:t>www.nimh.</a:t>
            </a:r>
            <a:r>
              <a:rPr b="1" lang="en-US" sz="1600" spc="-1" strike="noStrike">
                <a:solidFill>
                  <a:srgbClr val="eee800"/>
                </a:solidFill>
                <a:latin typeface="Arial"/>
              </a:rPr>
              <a:t>nih</a:t>
            </a:r>
            <a:r>
              <a:rPr b="1" lang="en-US" sz="1600" spc="-1" strike="noStrike">
                <a:solidFill>
                  <a:srgbClr val="00d600"/>
                </a:solidFill>
                <a:latin typeface="Arial"/>
              </a:rPr>
              <a:t>.gov/</a:t>
            </a:r>
            <a:r>
              <a:rPr b="1" lang="en-US" sz="16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728640"/>
            <a:ext cx="800100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Scan the perimeter of the page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356840"/>
            <a:ext cx="815364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Can you tell who wrote it ?</a:t>
            </a:r>
            <a:endParaRPr b="0" lang="en-US" sz="25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name of page author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organization, institution, agency you recognize</a:t>
            </a:r>
            <a:br>
              <a:rPr sz="1800"/>
            </a:br>
            <a:br>
              <a:rPr sz="1900"/>
            </a:br>
            <a:r>
              <a:rPr b="0" lang="en-US" sz="19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Credentials for the subject matter ?</a:t>
            </a:r>
            <a:endParaRPr b="0" lang="en-US" sz="25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Look for links to: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33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99ff33"/>
                </a:solidFill>
                <a:latin typeface="Arial"/>
              </a:rPr>
              <a:t>About us”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“Philosophy”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“Background”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6699"/>
                </a:solidFill>
                <a:latin typeface="Arial"/>
              </a:rPr>
              <a:t>“Biography”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Is it current enough ?</a:t>
            </a:r>
            <a:endParaRPr b="0" lang="en-US" sz="25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cc"/>
                </a:solidFill>
                <a:latin typeface="Arial"/>
              </a:rPr>
              <a:t>Look for “last updated” date</a:t>
            </a:r>
            <a:endParaRPr b="0" lang="en-US" sz="19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676080"/>
            <a:ext cx="7772400" cy="69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xamine the conten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754380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ossibly forged ?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why not a link to published version ?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ourc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ocumented with links or notes ?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o the links work ?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vidence of bi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 text or sources ?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593280"/>
            <a:ext cx="762012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Do some detective work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360" y="1752480"/>
            <a:ext cx="8191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earch the URL in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alexa.com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lick on “Site info for … ”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Who owns the domain?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Who links to the site?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What did the site look like in the past?  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  (Wayback Machine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95360" y="1752480"/>
            <a:ext cx="8191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hich blogs link to it?  What do they say?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ry the URL in Google Blog Search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e what links are in Google’s “Similar pages”</a:t>
            </a:r>
            <a:br>
              <a:rPr sz="2800"/>
            </a:b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ook up the page author in Goog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0010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Does it all add up ?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48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as the page put on the web to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form ?  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ersuade ?  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ell ?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s a parody or satire ?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s it appropriate for your purpose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 algn="ct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560" y="484920"/>
            <a:ext cx="8001000" cy="82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"/>
              </a:rPr>
              <a:t>Try evaluating some sites...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arch a controversial topic in Goog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nuclear armagedd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prions dang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stem cells” abor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can the first two pages of resul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Visit one or two sites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valuate their quality and reliabilit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23:03:14Z</dcterms:created>
  <dc:creator>Library Systems Office</dc:creator>
  <dc:description/>
  <dc:language>en-US</dc:language>
  <cp:lastModifiedBy>Connie White</cp:lastModifiedBy>
  <cp:lastPrinted>2008-01-28T21:25:23Z</cp:lastPrinted>
  <dcterms:modified xsi:type="dcterms:W3CDTF">2009-07-24T22:16:26Z</dcterms:modified>
  <cp:revision>118</cp:revision>
  <dc:subject/>
  <dc:title>PowerPoint Presentation</dc:title>
</cp:coreProperties>
</file>